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18.png" ContentType="image/pn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8827-E1DF-4678-A3E5-2FA7449A0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D87A-7CAE-4E0C-A9E5-6A5CBF7C9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CB48-6691-49A3-B490-0908F26E6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8AC2-1678-41D7-902B-7BE171FEE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30FE-6D0C-4250-B3A9-277790558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2FA1-E6C1-4C22-B7C5-DF973C221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8DBA-F14F-408A-BFA6-59731EC91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8B39-F016-4E15-896D-FCA0BC078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1C10-97F1-4942-9810-03D2E8C5C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DFEC-27E0-4739-A563-52577A582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D022-1F75-4192-9212-4D94A5898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73AE-D880-4B99-B494-D220C722E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8578-CE15-4FF2-8295-01E13792BF1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10160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016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.wmf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nagerial Problem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commenda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rmulation and Data Analysi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olution Methodolog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iscussion / Conclus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include the budget constraints and proper player restrictions constraints were placed on the mode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ize V(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-5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) subject to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batter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≤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-1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batter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where t = season for 2005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pitcher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≤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-1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pitcher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where t = season for 2005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-5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Free Agent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2B;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SS;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C; P4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SP;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5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SP;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6-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evin Millar, Bill Mueller, Manny Ramirez, Johnny Damon, Trot Nixon, David Ortiz, Curt Schilling, Bronson Arroyo, Tim Wakefield (respectively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(Free Agents)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V(Free Agents)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t Bats(Free Agents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≥ At Bats (Leader Board)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nings Pitched (Free Agents) ≥ Innings Pitched (Starting Pitchers)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free agent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=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-1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free agen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≠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≠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3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≠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4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≠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lver shot of constrai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7679" t="30649" r="27679" b="37097"/>
          <a:stretch/>
        </p:blipFill>
        <p:spPr>
          <a:xfrm>
            <a:off x="1676520" y="2529000"/>
            <a:ext cx="58672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del demonstration of constrai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13540" r="8594" b="12502"/>
          <a:stretch/>
        </p:blipFill>
        <p:spPr>
          <a:xfrm>
            <a:off x="228600" y="1219320"/>
            <a:ext cx="85345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maximize the chance of winning the world series, the Red Sox should choose their team wise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4515" r="0" b="8062"/>
          <a:stretch/>
        </p:blipFill>
        <p:spPr>
          <a:xfrm>
            <a:off x="304920" y="1523880"/>
            <a:ext cx="85341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h_124523" descr=""/>
          <p:cNvPicPr/>
          <p:nvPr/>
        </p:nvPicPr>
        <p:blipFill>
          <a:blip r:embed="rId2"/>
          <a:stretch/>
        </p:blipFill>
        <p:spPr>
          <a:xfrm>
            <a:off x="900000" y="54864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h_111851" descr=""/>
          <p:cNvPicPr/>
          <p:nvPr/>
        </p:nvPicPr>
        <p:blipFill>
          <a:blip r:embed="rId3"/>
          <a:stretch/>
        </p:blipFill>
        <p:spPr>
          <a:xfrm>
            <a:off x="2612880" y="5486400"/>
            <a:ext cx="39852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ph_123660" descr=""/>
          <p:cNvPicPr/>
          <p:nvPr/>
        </p:nvPicPr>
        <p:blipFill>
          <a:blip r:embed="rId4"/>
          <a:stretch/>
        </p:blipFill>
        <p:spPr>
          <a:xfrm>
            <a:off x="4376880" y="5486400"/>
            <a:ext cx="4060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ph_124605" descr=""/>
          <p:cNvPicPr/>
          <p:nvPr/>
        </p:nvPicPr>
        <p:blipFill>
          <a:blip r:embed="rId5"/>
          <a:stretch/>
        </p:blipFill>
        <p:spPr>
          <a:xfrm>
            <a:off x="6148440" y="54864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ph_134321" descr=""/>
          <p:cNvPicPr/>
          <p:nvPr/>
        </p:nvPicPr>
        <p:blipFill>
          <a:blip r:embed="rId6"/>
          <a:stretch/>
        </p:blipFill>
        <p:spPr>
          <a:xfrm>
            <a:off x="7924680" y="5486400"/>
            <a:ext cx="41112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6172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ony Wom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6172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lando Cab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61722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ason Vari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61722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arl Pav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61722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aret W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uestion and Answ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o should The Boston Red Sox put on their roster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oston Red Sox have just won the World Series.  The General Manager, Theo Epstein, is heading down to Florida for the GM Meeting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As assistants to Epstein, we have been asked: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To make a recommendation on whether to re-sign the current team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or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Enter the free agent market and seek out new players to fill the roster in order to win another World Series next year.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im_playerchart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00" y="-2714760"/>
            <a:ext cx="487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mon (C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0" y="-2226240"/>
            <a:ext cx="47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h_120903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469800" cy="70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5400" y="-714960"/>
            <a:ext cx="39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h_119811" descr=""/>
          <p:cNvPicPr/>
          <p:nvPr/>
        </p:nvPicPr>
        <p:blipFill>
          <a:blip r:embed="rId3"/>
          <a:stretch/>
        </p:blipFill>
        <p:spPr>
          <a:xfrm>
            <a:off x="7772400" y="24382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bd00028_" descr=""/>
          <p:cNvPicPr/>
          <p:nvPr/>
        </p:nvPicPr>
        <p:blipFill>
          <a:blip r:embed="rId4"/>
          <a:stretch/>
        </p:blipFill>
        <p:spPr>
          <a:xfrm>
            <a:off x="7086600" y="3733920"/>
            <a:ext cx="45720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bd00028_" descr=""/>
          <p:cNvPicPr/>
          <p:nvPr/>
        </p:nvPicPr>
        <p:blipFill>
          <a:blip r:embed="rId5"/>
          <a:stretch/>
        </p:blipFill>
        <p:spPr>
          <a:xfrm>
            <a:off x="6019920" y="5724360"/>
            <a:ext cx="380880" cy="447840"/>
          </a:xfrm>
          <a:prstGeom prst="rect">
            <a:avLst/>
          </a:prstGeom>
          <a:ln w="0">
            <a:noFill/>
          </a:ln>
        </p:spPr>
      </p:pic>
      <p:pic>
        <p:nvPicPr>
          <p:cNvPr id="54" name="ph_119482" descr=""/>
          <p:cNvPicPr/>
          <p:nvPr/>
        </p:nvPicPr>
        <p:blipFill>
          <a:blip r:embed="rId6"/>
          <a:stretch/>
        </p:blipFill>
        <p:spPr>
          <a:xfrm>
            <a:off x="5562720" y="426708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" y="2799360"/>
            <a:ext cx="298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h_132788" descr=""/>
          <p:cNvPicPr/>
          <p:nvPr/>
        </p:nvPicPr>
        <p:blipFill>
          <a:blip r:embed="rId7"/>
          <a:stretch/>
        </p:blipFill>
        <p:spPr>
          <a:xfrm>
            <a:off x="7539120" y="4267080"/>
            <a:ext cx="46188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ph_120074" descr=""/>
          <p:cNvPicPr/>
          <p:nvPr/>
        </p:nvPicPr>
        <p:blipFill>
          <a:blip r:embed="rId8"/>
          <a:stretch/>
        </p:blipFill>
        <p:spPr>
          <a:xfrm>
            <a:off x="8458200" y="533412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0" y="4599360"/>
            <a:ext cx="390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bd00028_" descr=""/>
          <p:cNvPicPr/>
          <p:nvPr/>
        </p:nvPicPr>
        <p:blipFill>
          <a:blip r:embed="rId9"/>
          <a:stretch/>
        </p:blipFill>
        <p:spPr>
          <a:xfrm>
            <a:off x="6477120" y="5419800"/>
            <a:ext cx="457200" cy="447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" y="5276160"/>
            <a:ext cx="134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h_276520" descr=""/>
          <p:cNvPicPr/>
          <p:nvPr/>
        </p:nvPicPr>
        <p:blipFill>
          <a:blip r:embed="rId10"/>
          <a:stretch/>
        </p:blipFill>
        <p:spPr>
          <a:xfrm>
            <a:off x="4495680" y="548640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0" y="600588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h_121811" descr=""/>
          <p:cNvPicPr/>
          <p:nvPr/>
        </p:nvPicPr>
        <p:blipFill>
          <a:blip r:embed="rId11"/>
          <a:stretch/>
        </p:blipFill>
        <p:spPr>
          <a:xfrm>
            <a:off x="6553080" y="426708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" y="672048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h_123801" descr=""/>
          <p:cNvPicPr/>
          <p:nvPr/>
        </p:nvPicPr>
        <p:blipFill>
          <a:blip r:embed="rId12"/>
          <a:stretch/>
        </p:blipFill>
        <p:spPr>
          <a:xfrm>
            <a:off x="5029200" y="5486400"/>
            <a:ext cx="45252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bd00028_" descr=""/>
          <p:cNvPicPr/>
          <p:nvPr/>
        </p:nvPicPr>
        <p:blipFill>
          <a:blip r:embed="rId13"/>
          <a:stretch/>
        </p:blipFill>
        <p:spPr>
          <a:xfrm>
            <a:off x="6095880" y="3743280"/>
            <a:ext cx="390600" cy="44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80" y="84225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bd00028_" descr=""/>
          <p:cNvPicPr/>
          <p:nvPr/>
        </p:nvPicPr>
        <p:blipFill>
          <a:blip r:embed="rId14"/>
          <a:stretch/>
        </p:blipFill>
        <p:spPr>
          <a:xfrm>
            <a:off x="5553000" y="5724360"/>
            <a:ext cx="390600" cy="447840"/>
          </a:xfrm>
          <a:prstGeom prst="rect">
            <a:avLst/>
          </a:prstGeom>
          <a:ln w="0">
            <a:noFill/>
          </a:ln>
        </p:spPr>
      </p:pic>
      <p:pic>
        <p:nvPicPr>
          <p:cNvPr id="69" name="ph_113028" descr=""/>
          <p:cNvPicPr/>
          <p:nvPr/>
        </p:nvPicPr>
        <p:blipFill>
          <a:blip r:embed="rId15"/>
          <a:stretch/>
        </p:blipFill>
        <p:spPr>
          <a:xfrm>
            <a:off x="6553080" y="2057400"/>
            <a:ext cx="460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re-sign or not to re-sign…. that is the ques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fter much consideration and analysis, we recommend that Theo Epstein enter the free agent pool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ith openings at second base (2B), short stop (SS), catcher (C), and two starting pitchers (SP), the best available free agents for the Boston Red Sox are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2819520"/>
          <a:ext cx="7620120" cy="3886200"/>
        </p:xfrm>
        <a:graphic>
          <a:graphicData uri="http://schemas.openxmlformats.org/drawingml/2006/table">
            <a:tbl>
              <a:tblPr/>
              <a:tblGrid>
                <a:gridCol w="5089680"/>
                <a:gridCol w="253044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g.     HR.     RBI.     ERA.     Win-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432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h_124605" descr=""/>
          <p:cNvPicPr/>
          <p:nvPr/>
        </p:nvPicPr>
        <p:blipFill>
          <a:blip r:embed="rId1"/>
          <a:stretch/>
        </p:blipFill>
        <p:spPr>
          <a:xfrm>
            <a:off x="647640" y="5410080"/>
            <a:ext cx="409680" cy="609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6369840"/>
            <a:ext cx="441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l Pavano              NA        NA      NA       3.00       18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h_134321" descr=""/>
          <p:cNvPicPr/>
          <p:nvPr/>
        </p:nvPicPr>
        <p:blipFill>
          <a:blip r:embed="rId2"/>
          <a:stretch/>
        </p:blipFill>
        <p:spPr>
          <a:xfrm>
            <a:off x="647640" y="6095880"/>
            <a:ext cx="41112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ph_123660" descr=""/>
          <p:cNvPicPr/>
          <p:nvPr/>
        </p:nvPicPr>
        <p:blipFill>
          <a:blip r:embed="rId3"/>
          <a:stretch/>
        </p:blipFill>
        <p:spPr>
          <a:xfrm>
            <a:off x="649440" y="4724280"/>
            <a:ext cx="406080" cy="609840"/>
          </a:xfrm>
          <a:prstGeom prst="rect">
            <a:avLst/>
          </a:prstGeom>
          <a:ln w="0">
            <a:noFill/>
          </a:ln>
        </p:spPr>
      </p:pic>
      <p:pic>
        <p:nvPicPr>
          <p:cNvPr id="79" name="ph_111851" descr=""/>
          <p:cNvPicPr/>
          <p:nvPr/>
        </p:nvPicPr>
        <p:blipFill>
          <a:blip r:embed="rId4"/>
          <a:stretch/>
        </p:blipFill>
        <p:spPr>
          <a:xfrm>
            <a:off x="654120" y="4114800"/>
            <a:ext cx="39852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ph_124523" descr=""/>
          <p:cNvPicPr/>
          <p:nvPr/>
        </p:nvPicPr>
        <p:blipFill>
          <a:blip r:embed="rId5"/>
          <a:stretch/>
        </p:blipFill>
        <p:spPr>
          <a:xfrm>
            <a:off x="647640" y="3429000"/>
            <a:ext cx="409680" cy="609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36520" y="5744160"/>
            <a:ext cx="45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ret Wright              NA        NA      NA       3.28       15-8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2760" y="5074200"/>
            <a:ext cx="452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son Varitek            .296       18       73         NA         NA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28600" y="4281480"/>
            <a:ext cx="451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lando Cabrera       .264       10       62         NA         NA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672360"/>
            <a:ext cx="44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ny Womack           .307        5        38         NA         NA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went into our decis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ur goal is to get the best players available to fill the starting lineup, while staying within budgetary constraints.  We want to repeat as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ORLD CHAMPION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next year.  We will leave the “building for the future” for the Stankees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ecision Variables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 determine which player affords the maximum value for each position that the team is looking to fill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bjectives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ize player value at each “open” posit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 why not pick up Barry Bonds, Randy Johnson, and Albert Pujol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ssumptions and Constraints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tal money spent on starting batters for this coming season must be less than or equal to the money spent on starting batters last yea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tal money spent on starting pitchers for this coming season must be less than or equal to the money spent on starting pitchers last yea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ach open position must be filled by a free agent play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ach position must be filled by a player that plays that particular posi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l existing contracts must be uphel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ree agents’ statistics based only on last year’s statistic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those free agents who qualified for the leader board were considere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 anticipated pay of each free agent is based on his pay during previous yea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 positions that are to be filled are 2B, SS, C, and 2 x SP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ce a free agent has been chosen, he cannot be chosen agai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mar Garciaparra and Roger Clemens were excluded because of prior affilia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layer statistic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Key players statistics were gathered together in the following categories for both batters and pitchers: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57400" y="1981080"/>
          <a:ext cx="4191120" cy="4676760"/>
        </p:xfrm>
        <a:graphic>
          <a:graphicData uri="http://schemas.openxmlformats.org/drawingml/2006/table">
            <a:tbl>
              <a:tblPr/>
              <a:tblGrid>
                <a:gridCol w="2765520"/>
                <a:gridCol w="1425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Batting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Pitching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a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a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t B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ames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W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o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ou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a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rip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omplete Ga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R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hut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BI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Innings Pitc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Wal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trike 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tolen B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arned R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ught Stea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ome R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atting Average = Hits/At Ba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Wal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On Base Percentage = Hits + Walks/At Ba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trike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lugging Percentage = bases over at ba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arned Run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On Base Percentage + Slugging Percentage = How productive player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Walks plus hits per inning pitc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atting Average Again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maximize value, measure each player’s contribution to winning the world ser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ize V(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-5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) =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r batters: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20% * (Games played) + 10% * (Stolen bases) + 20% * (Strikeouts) + 50% * (On-base plus slugging)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.2(G) + .1(SB) + .20(K) +.5(OPS)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r pitchers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10% * (Games started) + 10% * (Complete games) + 30% * (Innings pitched) + 20% * (Strikeouts)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+ 30% * (Walks plus hits divided by innings pitched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.1(GS) + .1(CG) + .3(IP) + .2(K) + .3(WHIP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se categories were indexed based on the player’s standard deviation from the mean.  The player’s value was then summed to determine his overall value.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Z-score conver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mean and standard deviation of these statistics was then found, and converted to a z-score to make the statistics comparable using the following formula: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895480" y="2878200"/>
                <a:ext cx="24386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del demonstration of player valu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2500" t="29168" r="3127" b="17709"/>
          <a:stretch/>
        </p:blipFill>
        <p:spPr>
          <a:xfrm>
            <a:off x="380880" y="160020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22:50:30Z</dcterms:created>
  <dc:creator>Administrator</dc:creator>
  <dc:description/>
  <dc:language>en-US</dc:language>
  <cp:lastModifiedBy>Spiro J Skouras</cp:lastModifiedBy>
  <dcterms:modified xsi:type="dcterms:W3CDTF">2004-11-29T01:32:31Z</dcterms:modified>
  <cp:revision>23</cp:revision>
  <dc:subject/>
  <dc:title>Slide 1</dc:title>
</cp:coreProperties>
</file>